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2E7FB8DC-9019-4CAC-982D-60EC024D4302}"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B2B379A-E480-4A8D-B293-B47833A51AFF}"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79019-17F4-4077-B4FE-538AA394B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B1E0A-FEAC-44A0-B08A-382E1950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B4EE7-E761-4D80-BE9A-91BE05138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F40D9-0E29-4FD2-8094-5F96CAAAD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C0F6F-67C7-422E-9EEF-63EC610FE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1E42E-58B1-4E4E-B3F6-E4A32F7FD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47CE6-632D-478A-B102-723204614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B2B00-F66E-4F05-A620-E0E1447E0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90ED2-B498-4F8B-A5D4-E4634A8D1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7E2B-31FC-46AC-9C26-B49766F0B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5C0CB-2A6A-4B04-AA02-54FED57E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97664-39B8-418C-9970-6FD489081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Albertus Mediu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000000"/>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6959-E19C-43C0-B66A-FE45714E46BE}"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9AA99-8839-4AF1-A119-FF73223E468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E38C-0792-4C89-A565-1F14C83EDC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3C2D-2171-4519-8C6E-5FAFACDD26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F96C9-9427-427F-AEAF-60842C1F60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BECD2-01E5-4D84-9B9A-55582E2FE2F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1DA3-7BF7-4BFF-A7C5-0E0AEB25673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1E64-FA14-4AD4-B77F-0FBDE913D49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A9FA2-4BC8-4CB5-879C-26A6EBB08DA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7395-A7D1-49B5-BC2C-447D677221C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17E3-C221-47D7-A012-49B31FE192A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7872-ED65-4D3C-8570-8FC4E3C5297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4D7D-6233-460C-98EF-39F63D5A1BC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B3922-FF0E-47C9-B55A-8B1A334984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237D8-E2C1-4C87-AF18-CD6C2AAA947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BEA9-B4FA-4679-B92B-D644442326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C9CB-B826-4D6B-A6D6-1E37AE6D8F9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812B-3553-475A-8900-7F3DF55325A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637A-9533-469A-8856-8301AA4C6BA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F5B8E-579F-444D-ADC4-35DA5791E9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02E3A-B46B-4D8A-89C5-4796B77387B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AD48-A4C6-4194-9C32-15F42961CB4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568CC-58DE-4D83-BD70-07D253C3581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06A8-4904-4E9B-883C-0E7929AC18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5603-7A0F-4889-9CA2-EA9436DFF1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5AB8A-B194-436E-94A3-5A2CBE8FFB3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0D17-DA0A-42DF-ABA5-BC6785EF884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D7B-0883-489A-8574-FDE751BB65D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EF9F-54C0-4243-8A1B-A6C58DCAD3C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3E89-7782-491F-B183-5278AD4F03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C6D2-DE3A-4FD2-89C3-BE1B9FBF2B4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980AD-BEDE-47A4-805F-CB469FD1A7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271B-573E-4E14-AED6-481E8882DDC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F95B-20A3-4528-BF26-91854A2D46E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D079B-606A-48B7-84D6-ACE2BB04B9E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95D2-151E-4BC1-A52A-06AAAA071F7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18EF-2A88-4DBF-A226-511CD64FEBF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6228-C3A6-4603-A49E-8BAD49DDA25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7C34-6136-4717-A484-EAC6ADE1C4F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D1779-6B88-4772-BFB8-C806695DC8E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E3DC3-6ECA-4E09-A679-AFB1CC5AD2E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6th October 2017</a:t>
            </a:r>
            <a:endParaRPr b="0" lang="en-US" sz="9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8444-F2FA-488B-8BC0-6C00CB3F988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7-07-03T09:07:12Z</dcterms:modified>
  <cp:revision>71</cp:revision>
  <dc:subject/>
  <dc:title>Aims and Objectives</dc:title>
</cp:coreProperties>
</file>